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377-E72C-4E07-B351-5F643317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17E-1FA8-4073-AE03-DE856E51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82D-8B83-4845-BC51-2D6B2BAA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E94-0D00-48B6-87A7-2EE9DB90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81F-601C-45BE-95C7-AAE34997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BCC-9000-4203-A0E1-C6884163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9DC-6863-41B8-8896-75DF854C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5CC-2E92-4A8B-B6A5-2575F70E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8C5-9A8A-47B7-9CBE-78DA7AAE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D6E-58CD-4231-9F07-82C7D07A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57F-8C02-4F18-914A-6209A5C0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619-4CF1-4FFA-BEB5-46C9F80A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E0F4-EC60-4A94-85FC-D078B9D2E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730200">
            <a:off x="2626920" y="2997000"/>
            <a:ext cx="374328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565360"/>
            <a:ext cx="295092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250560" y="2637000"/>
            <a:ext cx="3027240" cy="504720"/>
          </a:xfrm>
          <a:prstGeom prst="leftArrow">
            <a:avLst>
              <a:gd name="adj1" fmla="val 63676"/>
              <a:gd name="adj2" fmla="val 191432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lioramento dei traspor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8131200">
            <a:off x="-468720" y="4436640"/>
            <a:ext cx="4676760" cy="528840"/>
          </a:xfrm>
          <a:prstGeom prst="leftArrow">
            <a:avLst>
              <a:gd name="adj1" fmla="val 63676"/>
              <a:gd name="adj2" fmla="val 282253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lioramento delle vie di comun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3720" y="3120840"/>
            <a:ext cx="2033640" cy="241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3141720"/>
            <a:ext cx="5032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551840" y="1599840"/>
            <a:ext cx="1162800" cy="101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5560" y="2786760"/>
            <a:ext cx="2611080" cy="7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5661000"/>
            <a:ext cx="1224000" cy="936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du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5589720"/>
            <a:ext cx="1224000" cy="93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i di v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6360" y="3213000"/>
            <a:ext cx="1187280" cy="93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Mer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549360"/>
            <a:ext cx="1296720" cy="107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ol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pers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5240" y="866160"/>
            <a:ext cx="294624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9640" y="404640"/>
            <a:ext cx="1405080" cy="1149480"/>
          </a:xfrm>
          <a:prstGeom prst="flowChart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t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ultur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32Z</dcterms:created>
  <dc:creator>PC01</dc:creator>
  <dc:description/>
  <dc:language>en-US</dc:language>
  <cp:lastModifiedBy>PC01</cp:lastModifiedBy>
  <dcterms:modified xsi:type="dcterms:W3CDTF">2016-12-05T08:50:05Z</dcterms:modified>
  <cp:revision>7</cp:revision>
  <dc:subject/>
  <dc:title>Diapositiva 1</dc:title>
</cp:coreProperties>
</file>